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F8C-FE22-4E47-8C8B-7FDDDF2B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3CA-F4E8-41AC-BEF8-B559CC22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D0B-13A3-4EA4-B0DA-D264ED03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A30-CC1C-4DD2-A1B8-8AB71A5F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FBA-CCB8-4600-9BD7-58908914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E03-51C3-4D36-B6C6-35539D49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4E3-C664-4207-B3F9-014CC2EC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6F7-CEC4-4255-9BC1-A642F532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068-1D10-4998-ABA7-8FEBC1D3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5CF-8100-4403-9F9D-317A6F3C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4FC-5C12-499E-94C2-D7C4044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260-7354-4ED3-805E-FE44846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C03D-1763-4D10-A7B4-BB1C2BE9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Tahoma"/>
              </a:rPr>
              <a:t>A Good Presentation</a:t>
            </a:r>
            <a:endParaRPr b="1" lang="en-US" sz="5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Mr Reddy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Today’s talk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Tell you what I’m going to tell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Tell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Tell you what I’ve told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48360" y="5345280"/>
            <a:ext cx="192744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Be positive about it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Tahoma"/>
              </a:rPr>
              <a:t>Imagine the applause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Tahoma"/>
              </a:rPr>
              <a:t>Picture the audience cheering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Tahoma"/>
              </a:rPr>
              <a:t>Remember…your audience wants you to succeed.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64360" y="5184720"/>
            <a:ext cx="14619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Rehearse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Keep to time limit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Know your subject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When nerves get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16960" y="3860640"/>
            <a:ext cx="9014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Keep it simple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Short sentences/bullet points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Small amount of info per slid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Dash of colour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5516640"/>
            <a:ext cx="1224000" cy="217440"/>
          </a:xfrm>
          <a:custGeom>
            <a:avLst/>
            <a:gdLst/>
            <a:ahLst/>
            <a:rect l="l" t="t" r="r" b="b"/>
            <a:pathLst>
              <a:path w="1757" h="614">
                <a:moveTo>
                  <a:pt x="970" y="4"/>
                </a:moveTo>
                <a:cubicBezTo>
                  <a:pt x="864" y="18"/>
                  <a:pt x="609" y="47"/>
                  <a:pt x="509" y="91"/>
                </a:cubicBezTo>
                <a:cubicBezTo>
                  <a:pt x="425" y="128"/>
                  <a:pt x="345" y="139"/>
                  <a:pt x="259" y="167"/>
                </a:cubicBezTo>
                <a:cubicBezTo>
                  <a:pt x="17" y="247"/>
                  <a:pt x="208" y="196"/>
                  <a:pt x="96" y="225"/>
                </a:cubicBezTo>
                <a:cubicBezTo>
                  <a:pt x="63" y="246"/>
                  <a:pt x="33" y="271"/>
                  <a:pt x="0" y="292"/>
                </a:cubicBezTo>
                <a:cubicBezTo>
                  <a:pt x="111" y="330"/>
                  <a:pt x="322" y="244"/>
                  <a:pt x="432" y="215"/>
                </a:cubicBezTo>
                <a:cubicBezTo>
                  <a:pt x="672" y="153"/>
                  <a:pt x="920" y="109"/>
                  <a:pt x="1162" y="62"/>
                </a:cubicBezTo>
                <a:cubicBezTo>
                  <a:pt x="1298" y="36"/>
                  <a:pt x="1439" y="32"/>
                  <a:pt x="1574" y="4"/>
                </a:cubicBezTo>
                <a:cubicBezTo>
                  <a:pt x="1593" y="7"/>
                  <a:pt x="1618" y="0"/>
                  <a:pt x="1632" y="14"/>
                </a:cubicBezTo>
                <a:cubicBezTo>
                  <a:pt x="1648" y="30"/>
                  <a:pt x="1599" y="31"/>
                  <a:pt x="1565" y="43"/>
                </a:cubicBezTo>
                <a:cubicBezTo>
                  <a:pt x="1399" y="104"/>
                  <a:pt x="1455" y="89"/>
                  <a:pt x="1306" y="148"/>
                </a:cubicBezTo>
                <a:cubicBezTo>
                  <a:pt x="1223" y="181"/>
                  <a:pt x="1142" y="220"/>
                  <a:pt x="1056" y="244"/>
                </a:cubicBezTo>
                <a:cubicBezTo>
                  <a:pt x="1021" y="254"/>
                  <a:pt x="984" y="260"/>
                  <a:pt x="950" y="273"/>
                </a:cubicBezTo>
                <a:cubicBezTo>
                  <a:pt x="844" y="312"/>
                  <a:pt x="741" y="361"/>
                  <a:pt x="634" y="398"/>
                </a:cubicBezTo>
                <a:cubicBezTo>
                  <a:pt x="551" y="427"/>
                  <a:pt x="466" y="453"/>
                  <a:pt x="384" y="484"/>
                </a:cubicBezTo>
                <a:cubicBezTo>
                  <a:pt x="358" y="494"/>
                  <a:pt x="332" y="502"/>
                  <a:pt x="307" y="513"/>
                </a:cubicBezTo>
                <a:cubicBezTo>
                  <a:pt x="274" y="528"/>
                  <a:pt x="211" y="561"/>
                  <a:pt x="211" y="561"/>
                </a:cubicBezTo>
                <a:cubicBezTo>
                  <a:pt x="419" y="614"/>
                  <a:pt x="262" y="578"/>
                  <a:pt x="778" y="561"/>
                </a:cubicBezTo>
                <a:cubicBezTo>
                  <a:pt x="1095" y="551"/>
                  <a:pt x="1435" y="523"/>
                  <a:pt x="1757" y="52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Be positiv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Rehears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Keep it simpl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84720" y="5084640"/>
            <a:ext cx="26434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Tahoma"/>
              </a:rPr>
              <a:t>Any questions?</a:t>
            </a:r>
            <a:endParaRPr b="1" lang="en-US" sz="5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7:17:50Z</dcterms:created>
  <dc:creator>Bruno Reddy</dc:creator>
  <dc:description/>
  <dc:language>en-US</dc:language>
  <cp:lastModifiedBy>Bruno Reddy</cp:lastModifiedBy>
  <dcterms:modified xsi:type="dcterms:W3CDTF">2005-04-14T17:30:52Z</dcterms:modified>
  <cp:revision>3</cp:revision>
  <dc:subject/>
  <dc:title>A Good Presentation</dc:title>
</cp:coreProperties>
</file>